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F84-62C3-4B06-ACE7-E2EC8C59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3E9-FC9C-4DE9-A804-02ECC17E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62F-9B93-4CCD-A9D3-87CA80AF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892-03FA-4AF3-BE3D-8D16939A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23A-BEC6-470C-B362-AE866391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922-84FF-429C-9106-E71B65BC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293-0510-4E9A-8170-470B2C06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3BF-F7BF-4B64-867F-CCD381B5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818-46A9-43EA-9B68-6D8F2198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E39-1B29-4639-8C9B-F03E95D6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410-884D-49CE-BE85-A657E13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506-23A4-4FD2-A609-A81B3B85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CEEE-53BE-4EB2-A035-A406C399A7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translated by ikoma@slab.tnr.sharpco.j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6297-D1D3-4410-B1AD-93D5D28FB0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Resul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tar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76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a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6.38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(mpl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910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: 10.24 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08760" y="578016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wsusp process start at: 2.174 [sec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996-7007-4D06-AF49-ADAAA03808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/suspend2 Compari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strict comparison as Linux versions are not the sa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/linux2.6.11: image is small, and startup is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/linux2.6.14: LZF compression of image is effective, but tradeoff with startup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-2.2 is not stable yet, as it is RC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740-C0C0-452B-8242-9878E91E95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susp/suspend2 Comparison: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size/process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2: 925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:     889KB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2E6-A841-425B-832B-63E3A35A7F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 of swsusp, Pavel, has extended swsusp with encryption, compression, UI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minimize the change to kernel by most of processing done in the user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September/00131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3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osdl.org/pipermail/linux-pm/2005-November/001562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3C6-C418-4AF6-A2FC-FC0EB9467B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 (ML diges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72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integrate kernel part into around 2.6.16 (Pav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tegrated, RH/FC kernel would fork. Swsusp3 uses /dev/mem, but they restrict /dev/mem to prevent rootkit (Dave J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ot discussion continues on swsusp3 vs secu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/compression in userland is more intuitiv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fael J. Wysoc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2FA-7706-4051-BDD1-33BBFE0DEE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 (ML digests (cont.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functions are already in suspend2. Duplicated effort (Dumitru Ciobarcianu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different to implement in kernel. Can’t believe Pavel? Nigel knows what he should do to work together. (Greg K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understand why they think userland is the right place. (Nig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CD1-E25D-4349-A2D7-CB1259813D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3: (ML digests (cont.)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land swsusp changes only 150 lines or so in kernel (Pa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Nigel’s code won’t be mainlined. (Greg K-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ot discussion contin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410-D102-4294-A4A3-BECFC12126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97F-685A-43E0-B8B0-B6664ACF36C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until the application reaches to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 of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l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Processing among applications for the whole system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3960" y="20750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9800" y="2160720"/>
            <a:ext cx="11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328464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8880" y="2205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tim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 to shorten start up time of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0EB-8708-41C3-AD72-97775DE5CD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ion on Linu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 in 2.6 vanilla ker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18C-7387-41CF-B545-B2FAFCC4FC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89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bernation on Linux(Comparison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82960" y="14842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1520" y="594828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E5C-5D22-4F8C-A729-81F707B798E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ed 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 A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d on Suspend2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incorporated in next relea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5800" y="3735360"/>
            <a:ext cx="80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lists.suspend2.net/lurker/message/20051114.094040.11261d0e.e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35F-D09D-4B97-A545-93C3273FE9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3FE-7FE8-4393-81C2-B2916347C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Evalu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4 + Suspend2-2.2-rc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bernate from ash login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rintk time of kernel to measu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is the timimg when linux starts up from u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ke menu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99E-9790-44C3-A122-26CD60F7E7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Resul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Star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618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492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371 M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.450 MB (compression rate 39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(lzf o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99 [se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74920" y="5805360"/>
            <a:ext cx="47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2 process start at: 4.402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54280" y="5229360"/>
            <a:ext cx="46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 of startup time: 20%,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50 [se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280-142E-4F13-B802-93CBB8AB02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Evalu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2.6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rintk time of kernel to measu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starts when linux starts up from ub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ke menuconf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hacking ---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[ ] Show timing information on print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ree.celinuxforum.org/CelfPubWiki/Printk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FE4-8ECA-4FA2-882E-7FD4C6A211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Nov/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Takao Ikoma</cp:lastModifiedBy>
  <dcterms:modified xsi:type="dcterms:W3CDTF">2006-02-17T06:51:21Z</dcterms:modified>
  <cp:revision>3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